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4FE9-DA6F-4C92-BAAA-2778FC5F9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4A12-276D-47C0-883B-2C669AD17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4299-9631-411D-8DDA-CC9229670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8829-8CBD-4D2F-AF15-87E7F43EE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C4C3-72E0-43AB-9CAC-82CBAE544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985B-E357-4579-A4FE-82D48AA46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5550-FCDA-4E44-8641-FF20E1CC3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1491-B937-4136-9DC4-3D681E9F4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D3FD-A521-495F-B7C4-F88F37EC7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6B6C-4B2F-4AA0-8E9F-85723E1C6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ED34-4EF5-4ABF-9957-C41869A72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499A-15A7-48D5-8806-76DD210A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9DD-3FDC-4C5B-B7B4-2AE9E46B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8865-6ACE-40AE-BF01-156BADE9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B6EE-1296-4FBA-A30D-BA8857FD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F3A0-62C9-4F4E-9B20-18521413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EA9-5EE8-4794-A0CD-31B31F6E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DA2-16FE-4C30-BE22-DDD22F17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B69-2D6D-4377-B404-0819B05A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4971-E121-4873-9655-8D0D61EA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58A8-9FA7-4064-8E42-1BEF874A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E36F-EA1D-4F10-9133-261A3CAB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86B4-7998-404A-890A-3F8C777B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E9CE-2347-46DA-A297-ADBFFF682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917UC2MZOGU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Buoy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Use the concept of buoyancy to explain how magmas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ces: Comparing Hot Air Balloon &amp; Magm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features of the hot air balloon and magma that ar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iffer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In the table fill in the aspects that are different for the causes of rising as well as the factors impacting density and buoyancy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2666880"/>
          <a:ext cx="8991720" cy="3305160"/>
        </p:xfrm>
        <a:graphic>
          <a:graphicData uri="http://schemas.openxmlformats.org/drawingml/2006/table">
            <a:tbl>
              <a:tblPr/>
              <a:tblGrid>
                <a:gridCol w="3014640"/>
                <a:gridCol w="3013200"/>
                <a:gridCol w="2963880"/>
              </a:tblGrid>
              <a:tr h="56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Hot Air Ball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ad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152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ctors impacting density of balloon/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ad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ctors impacting buoya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ad"/>
                      </a:solidFill>
                    </a:lnT>
                    <a:lnB w="5760">
                      <a:solidFill>
                        <a:srgbClr val="0000ad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4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Gravitational energy, thermal energy and/or chemical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2. A system is in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6. When molecules move faster, the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densit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of most substances decreases.  Water is anomaly because liquid water is more dense than i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7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Buoyanc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causes materials to rise or fall due to the relative density of material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 and Dens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04920" y="121932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How does increasing temperature cause decreasing dens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Increasing temperature causes molecules to move faster, spread out and for the density of decre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181480" y="633420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blank005.tripod.com/geology/graphic/tectonics/beaker.g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convectionbeaker.gif"/>
          <p:cNvPicPr/>
          <p:nvPr/>
        </p:nvPicPr>
        <p:blipFill>
          <a:blip r:embed="rId1"/>
          <a:stretch/>
        </p:blipFill>
        <p:spPr>
          <a:xfrm>
            <a:off x="5181480" y="990720"/>
            <a:ext cx="3403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 is a video of a Galileo Thermomet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youtube.com/watch?v=917UC2MZOGU&amp;feature=rela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ubbles of different colored material have different chemical properties that mean their density changes at different temperatures.  As a result, they are more or less buoyant at different temperatu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Q. What is buoyanc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228600" y="5875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The force that is equal to the weight of the water the object dis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6324480" y="4572000"/>
            <a:ext cx="281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misclab.umeoce.maine.edu/boss/classes/SMS_491_2003/buoyancy.g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buoyancy.gif"/>
          <p:cNvPicPr/>
          <p:nvPr/>
        </p:nvPicPr>
        <p:blipFill>
          <a:blip r:embed="rId1"/>
          <a:stretch/>
        </p:blipFill>
        <p:spPr>
          <a:xfrm>
            <a:off x="609480" y="1494000"/>
            <a:ext cx="518184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Q. How does buoyancy make things floa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533520" y="5562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The density of the object is compared to the density of the fluid it is immersed in.  If the object is less dense than the fluid, it will ri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010280" y="449568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en.wikipedia.org/wiki/File:Buoyancy.sv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500px-Buoyancy.png"/>
          <p:cNvPicPr/>
          <p:nvPr/>
        </p:nvPicPr>
        <p:blipFill>
          <a:blip r:embed="rId1"/>
          <a:stretch/>
        </p:blipFill>
        <p:spPr>
          <a:xfrm>
            <a:off x="2666880" y="1371600"/>
            <a:ext cx="3353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: Hot Air Ballo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63244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as flame is used to heat the air inside the balloon.  The warm air in the balloon is less dense than the air outside the ballo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2165400"/>
          <a:ext cx="6934320" cy="4694040"/>
        </p:xfrm>
        <a:graphic>
          <a:graphicData uri="http://schemas.openxmlformats.org/drawingml/2006/table">
            <a:tbl>
              <a:tblPr/>
              <a:tblGrid>
                <a:gridCol w="3497400"/>
                <a:gridCol w="3436920"/>
              </a:tblGrid>
              <a:tr h="60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Hot Air Ball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Prin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0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as fl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811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ifferences in air inside and outside the ball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8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oon r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3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oon flo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Outside air heating up during the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74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Amount of fuel available for the gas fl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sp>
        <p:nvSpPr>
          <p:cNvPr id="71" name="TextBox 5"/>
          <p:cNvSpPr/>
          <p:nvPr/>
        </p:nvSpPr>
        <p:spPr>
          <a:xfrm>
            <a:off x="7010280" y="304812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airpurifierreviews.info/wp-content/uploads/2010/09/hot-air-balloon-rid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ot-air-balloon-ride.jpg"/>
          <p:cNvPicPr/>
          <p:nvPr/>
        </p:nvPicPr>
        <p:blipFill>
          <a:blip r:embed="rId1"/>
          <a:stretch/>
        </p:blipFill>
        <p:spPr>
          <a:xfrm>
            <a:off x="6934320" y="0"/>
            <a:ext cx="22669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: Magm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60199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ses of hot magma rise through the lithosphere until they cool and solidify into igneous ro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2963880"/>
          <a:ext cx="9144000" cy="4033800"/>
        </p:xfrm>
        <a:graphic>
          <a:graphicData uri="http://schemas.openxmlformats.org/drawingml/2006/table">
            <a:tbl>
              <a:tblPr/>
              <a:tblGrid>
                <a:gridCol w="4610160"/>
                <a:gridCol w="4533840"/>
              </a:tblGrid>
              <a:tr h="456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Prin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Water added to hot rocks deep underg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ifferences in the cold lithosphere and the hot 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6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Magma r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3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Magma solidifies and stops r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915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ifference between the magma and oceanic lithosphere versus continental lith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43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ases leaving the 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sp>
        <p:nvSpPr>
          <p:cNvPr id="76" name="TextBox 5"/>
          <p:cNvSpPr/>
          <p:nvPr/>
        </p:nvSpPr>
        <p:spPr>
          <a:xfrm>
            <a:off x="6400800" y="243828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mantleplumes.org/images3/ScandesFig2_400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mantleplume.gif"/>
          <p:cNvPicPr/>
          <p:nvPr/>
        </p:nvPicPr>
        <p:blipFill>
          <a:blip r:embed="rId1"/>
          <a:stretch/>
        </p:blipFill>
        <p:spPr>
          <a:xfrm>
            <a:off x="5981760" y="76320"/>
            <a:ext cx="3085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gnment: Comparing Hot Air Balloon &amp; Magm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6320" y="1447920"/>
          <a:ext cx="8991360" cy="5333760"/>
        </p:xfrm>
        <a:graphic>
          <a:graphicData uri="http://schemas.openxmlformats.org/drawingml/2006/table">
            <a:tbl>
              <a:tblPr/>
              <a:tblGrid>
                <a:gridCol w="3014640"/>
                <a:gridCol w="3012840"/>
                <a:gridCol w="2963880"/>
              </a:tblGrid>
              <a:tr h="761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Hot Air Ball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Prin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as fl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927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ifferences in air inside and outside the ball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7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oon r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oon flo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62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Outside air heating up during the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83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Amount of fuel available for the gas fl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5:36:25Z</dcterms:created>
  <dc:creator>Julie Libarkin</dc:creator>
  <dc:description/>
  <dc:language>en-US</dc:language>
  <cp:lastModifiedBy>Nicole LaDue</cp:lastModifiedBy>
  <dcterms:modified xsi:type="dcterms:W3CDTF">2010-12-15T17:27:23Z</dcterms:modified>
  <cp:revision>309</cp:revision>
  <dc:subject/>
  <dc:title>PowerPoint Presentation</dc:title>
</cp:coreProperties>
</file>